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3B5-E5F8-498A-92C8-2A345240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A17-5E76-4E92-82F7-3D0B0FC7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33B-F117-47B2-B93D-8BEE3043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B0E-335D-417B-8499-D1F4DED9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4D76-6625-4B74-9A82-6F346AD7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2A7B-B696-4540-802A-9ADD7D5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7E90-E488-44DF-ABFD-011C7B6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8ED-5FDB-4FE7-82B0-28ECAE8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91CB-3653-4286-9FEA-E54F298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BCE8-42C2-45F4-8C6E-A590EFA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84CD-BD87-4CCF-A96C-6C1A785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114-D4C9-4D03-AB36-C89BE94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263-509A-41F8-91DC-B6324EF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CABC-606E-4786-B1B5-C2BC2BC5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3EC-B428-458E-ADC6-CBFF410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B53-3D04-4B5A-89A9-D9BB109F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B44-A82B-4386-9CB1-161EF73D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CB1-6B83-4AA0-A024-B37B260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1B9-3C11-4B04-9B3D-EC6B61B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49D-17DF-4C38-A206-C9948737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E65-D9E6-4A06-9462-316027E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210-F4D6-4351-87D7-304286E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67B-9141-4462-887B-DC2C722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A06-68DA-4E5F-B36D-DCFD3AA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D68-F164-4498-B395-6AF26826C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1B39-742F-4192-8C63-6B83D3824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28605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Olwyn roulette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76849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olwyn roulette wedi ei rhifo o 1 i 3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aron yn dewis rhif ar yr olwyn. Defnyddiwch y wybodaeth ganlynol i benderfynu pa rif ddewisiodd Aa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Mae’r rhif yn rhanadwy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â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ae swm y digidau rhwng 4 ac 8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Comic Sans MS"/>
              </a:rPr>
              <a:t>Mae’n odrif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3ff"/>
                </a:solidFill>
                <a:latin typeface="Comic Sans MS"/>
              </a:rPr>
              <a:t>Mae lluoswm y digidau rhwng 4 ac 8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73708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55:57Z</dcterms:created>
  <dc:creator>Carwyn</dc:creator>
  <dc:description/>
  <dc:language>en-US</dc:language>
  <cp:lastModifiedBy>Carwyn</cp:lastModifiedBy>
  <dcterms:modified xsi:type="dcterms:W3CDTF">2008-12-05T19:07:57Z</dcterms:modified>
  <cp:revision>2</cp:revision>
  <dc:subject/>
  <dc:title>Olwyn roulette</dc:title>
</cp:coreProperties>
</file>